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wmf" ContentType="image/x-wmf"/>
  <Override PartName="/ppt/media/image9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FF1-2F2D-46A4-883D-A1A139F6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982-2704-4331-8493-F6CB0FCA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9B55-D375-430B-9B41-00C0B77B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9E6-FFC6-403D-8A13-A61A8EF5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3B6A-283F-487E-9340-1E2AD0BE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116D-BA11-4828-A2C8-6BA34522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C020-9109-4CFD-B1F9-D0D812C6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89B9-B402-4F57-B007-FA5B82CC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08B1-EDB3-4424-8A4E-B007979E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CE77-3A9B-4E9C-BFA3-5D677E3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4A0C-4A1C-4BFD-AC9C-8F6F52C2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C3D-B355-4DF4-9A6B-FDDC926B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1FEC-6431-4A75-A7AA-DE97D14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C31F-3BD2-4F07-BD59-4ACF065B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75A6-161D-4A38-9D54-B6196B7E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5403-E4EF-4CED-826D-1DBA3B2B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654D-1EF3-44D1-ADE3-B771A00A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7E4D-FC88-4066-9CA0-2DC07029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D3D7-7C9E-4AD3-852D-B3D7270E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B8A4-6C3F-448B-8999-A0D14DB8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0C38-26BC-45D9-A181-23AA4891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177B-A40C-4F54-98AD-6BE226AA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04C-9347-4CE7-A391-69107227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0848-265C-4CEB-A3C0-5288350F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CF71-F1EE-4E52-80EC-EF4146D6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2D31-2597-48B5-9167-04022A40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0AB4-04A7-4EC8-8C11-57C0031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197DF-2506-4331-82DB-B5A48153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91E12-E387-4F8C-A492-564A9648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D0F6-D8BC-4CF7-B050-6FFE111B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8F13-8F48-4682-AF78-9BBCE624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F625-30E0-4CA1-A2F4-3D416816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BE67-8BF8-4CBA-87A5-6FE62F6A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F04-525C-4D2B-94A2-30234E25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0ABB-FD37-476D-BC44-BFB0DA4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6721B-FEDB-4295-865C-4739130D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C093E-4FAE-40E0-8AFD-D2DA19B8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B0FB-E0EF-4416-B2B9-99157164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8CAFD-2DE0-43F6-A320-4DAF890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1538-7557-4FA2-8A26-1C932392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CA5B-32A6-4F02-B553-DE116856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524E-BF38-4CB9-AA23-5B55F88E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6ABB-E96D-46A0-8E4C-EBC6F0AC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65533-7BFF-42CE-99AC-515467D7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0FA-AE8B-4AEF-BFCA-0AE039C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EDCD5-E536-4D46-9AC6-6F3FADE4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EAB89-2C0A-477D-812C-449BEAC2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1420-6C41-46B6-9749-F610EDE8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9F5B-24D9-4CE4-A52F-2A74C7CC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E407-E023-4AF1-8E4C-F56BA289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81DA-8153-4656-A4AE-95E6117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1FAB9-1469-495A-B1D0-6C6BD5D2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02AE4-C131-4DB4-A317-F86DD79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E0689-39A5-42AD-B871-EA03659C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F2B9F-8098-4B31-A36A-EE2D3C40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4D7-E75D-4C8C-AD4B-0E02FE87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6F052-6853-45CB-8206-92B40B6F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2D682-A95A-440A-A744-EA3A1A24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6028-2F4A-46EF-80FC-BF8CCC29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BC79-B653-43C5-95AD-4D43FB3A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29438-3970-4A0A-84D4-A4DC239E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8EE57-89B9-412F-8597-A5A74667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3EF80-A3EF-4F78-BEE4-FBCA2202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8290E-D4A6-4ACE-8C39-B87CA890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BBDE6-F01B-4FB1-A987-D4924378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F04B5-A11B-43D0-BE41-C5D5E9FA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DA7-31D4-4D58-88F7-8686036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81DFE-84DE-4402-B3FF-DB2AD388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F493C-EF44-44AC-A27F-64061836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23E6C-1518-40EA-A8C5-B74D5036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D50AE-28EC-4124-8FB3-FD5E3A68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AE348-62F8-43CE-9343-6C63CC6E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29FBD-4E85-4A58-9A82-836359A1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4446F-CE35-48E5-93F8-5CE73EF6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365DC-ADF2-4141-B800-78DB6D82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A9FD9-DB35-4000-8D0D-01F4C60B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DA6DC-45D6-4CF1-8F14-DBAC9919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44E-BEF8-4D6C-9FC6-CCA0611B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9AF9-4EC6-4159-BF32-4CAFE107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8C8C-6E7D-4BE3-B9BC-3570284D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451FF-0106-4B92-ACF2-2ECDFA6B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D65E1-EDD7-42C6-8A1D-B0FFF088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2D6CC-B43E-4259-B398-232D412F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E751C-217A-491A-90CE-E6AF04F9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A92EF-C318-4D03-9FEC-F7724A6B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EE01B-6F9F-4419-96A3-8718F196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3CB1F-41FB-4F1A-AE16-6FD1D1D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3D566-5FE1-466F-9126-77D08FEB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FCB-A587-4313-BA73-0CD6F704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ECF43-0C88-42DB-A918-FC2EA4A5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6AB5C-120C-43FE-8510-A3DDC152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D273-2309-458F-B056-31287D3E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AF01F-7363-4E0C-AF29-71B29170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7EBF7-FF7D-4B54-AE2E-56213C30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10DFA-98F9-482C-A5C5-78371264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2576-CDDA-45E5-ABDE-EB235588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F194-16EC-49B0-9C74-B636F62B820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2E11-EB49-41A1-B9E7-A852738DEC1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78E3-8F8A-408B-A6E4-63BDD5061B1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9C38-D68D-4629-91D9-D7F243AC419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8CC7-8413-419B-A9F0-F97BA99C60D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2EE1-60CA-4875-A2BA-92B95816110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FF83-3110-443A-A274-E90322116CF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CE2F-2AE1-437A-B475-B5D7EC7BC12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nfourok.ru/go.html?href=http%3A%2F%2Fwww.theanimalworld.ru%2Fbooks%2Fbook-3%2F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42600" y="1071360"/>
            <a:ext cx="7072200" cy="35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Исследовательская работа на тему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«Бездомные собаки как одна из экологических проблем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поселка Строитель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2" descr="http://1.bp.blogspot.com/-2feZxnIDLLQ/VqoZfPZr0EI/AAAAAAAAACM/qr1yszLYqxk/s1600/%25D1%2581%25D0%25BE%25D0%25B1%25D0%25B0%25D1%2587%25D0%25BA%25D0%25B0.png"/>
          <p:cNvPicPr/>
          <p:nvPr/>
        </p:nvPicPr>
        <p:blipFill>
          <a:blip r:embed="rId1"/>
          <a:stretch/>
        </p:blipFill>
        <p:spPr>
          <a:xfrm>
            <a:off x="6826320" y="2214720"/>
            <a:ext cx="2317680" cy="347472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2143080" y="58579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Работу выполнила  коман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«Юные знатоки приро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428760" y="1714680"/>
          <a:ext cx="428616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714680"/>
                    <a:ext cx="428616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4714920" y="1571760"/>
          <a:ext cx="4019400" cy="30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4920" y="1571760"/>
                    <a:ext cx="401940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оугольник 8"/>
          <p:cNvSpPr/>
          <p:nvPr/>
        </p:nvSpPr>
        <p:spPr>
          <a:xfrm>
            <a:off x="214200" y="457200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показали,  чт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беих возрас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к бездомным собакам относятся положительно, большинство взя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 их к себе домой. Но группа 6 класса честно разделилась на две груп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относятся к бездомным собакам более полож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85840" y="1714320"/>
            <a:ext cx="850104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губернатора мы нашли несколько писем – жалоб от жителей, что в  нашем поселке много бездомных собак.  Поэтому нами было  проведено анкетирование среди жителей п. Строитель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жителей п. Строитель по вопросу «Возросло или уменьшилось количество бездомных собак?» (50 человек)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% считают, что число бездомных собак не изменилось по сравнению с прошлым годом, 13% считают, что бездомных собак в поселке нет, 43%, что увеличилось, 9% уменьшилось, 9% затруднились ответить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вызывает большой интерес жителей п.Строитель. Они проявляют гуманность к бездомным животным и заинтересованы в ее решен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AutoShape 1" descr=""/>
          <p:cNvPicPr/>
          <p:nvPr/>
        </p:nvPicPr>
        <p:blipFill>
          <a:blip r:embed="rId1"/>
          <a:stretch/>
        </p:blipFill>
        <p:spPr>
          <a:xfrm>
            <a:off x="182520" y="201600"/>
            <a:ext cx="87854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214200" y="274680"/>
            <a:ext cx="8715600" cy="1511280"/>
          </a:xfrm>
          <a:custGeom>
            <a:avLst/>
            <a:gdLst>
              <a:gd name="textAreaLeft" fmla="*/ 2178720 w 8715600"/>
              <a:gd name="textAreaRight" fmla="*/ 6536880 w 8715600"/>
              <a:gd name="textAreaTop" fmla="*/ 0 h 1511280"/>
              <a:gd name="textAreaBottom" fmla="*/ 1322640 h 1511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13840" y="1928880"/>
            <a:ext cx="8472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вгусте 2015 года в Тамбове заработал приют для бездомных животных  «Доброе сердце». Он принадлежит некоммерческой организации и существует на пожертвования. На средства гранта зоозащитники расчистили и огородили территорию на улице Московская, построили вольеры, работает административный корпус, будет карантинный блок. Всего приют может принять до полусотни собак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2206800" y="92160"/>
            <a:ext cx="4657680" cy="1450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s.vtambove.ru/localStorage/news/8b/d3/0d/a./8bd30da_resizedScaled_817to612.jpg"/>
          <p:cNvPicPr/>
          <p:nvPr/>
        </p:nvPicPr>
        <p:blipFill>
          <a:blip r:embed="rId2"/>
          <a:stretch/>
        </p:blipFill>
        <p:spPr>
          <a:xfrm>
            <a:off x="3000240" y="4000680"/>
            <a:ext cx="3571920" cy="26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214200" y="1213920"/>
            <a:ext cx="871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проблему бездомных животных, пришли 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с решением данной проблемы отдельному человеку не справиться, каким бы добрым и жалостливым он не был. Думаем начин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данной пробл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ы с поправки в Федеральный закон «О защите животных от жестокого обращения»,  в городах открывать приюты, повысить ответственность владельцев собак и кошек за соблюдением правил содержания животных; проводить воспитательную работу среди населения и особенно детей среднего школьного возраста о толерантном отношении к нашим «братьям меньшим»; проводить стерилизацию животных; проводить постоянные акции среди школьников и жителей обла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85480" y="148104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к реальному благополучию животных намного дольше и труднее, чем кажется многим нашим нетерпеливым или сентиментальным защитникам животных. Гуманность не возникает сама собой из принятия наивного «гуманного» закона. Гуманность возникает, когда в ее сторону изменяется реальная жизнь, пусть даже медленно. Животные – наши друзья! Они нужны нам, мы нужны им. И как сказал де Сент-Экзюпер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в ответе за тех, кого приручили»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http://cs616730.vk.me/v616730042/2518/ywLSB_j8Ay0.jpg"/>
          <p:cNvPicPr/>
          <p:nvPr/>
        </p:nvPicPr>
        <p:blipFill>
          <a:blip r:embed="rId2"/>
          <a:stretch/>
        </p:blipFill>
        <p:spPr>
          <a:xfrm>
            <a:off x="6500880" y="4572000"/>
            <a:ext cx="17143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1"/>
          <p:cNvSpPr/>
          <p:nvPr/>
        </p:nvSpPr>
        <p:spPr>
          <a:xfrm>
            <a:off x="142920" y="274680"/>
            <a:ext cx="8715240" cy="1225440"/>
          </a:xfrm>
          <a:custGeom>
            <a:avLst/>
            <a:gdLst>
              <a:gd name="textAreaLeft" fmla="*/ 2178720 w 8715240"/>
              <a:gd name="textAreaRight" fmla="*/ 6536520 w 8715240"/>
              <a:gd name="textAreaTop" fmla="*/ 0 h 1225440"/>
              <a:gd name="textAreaBottom" fmla="*/ 1072440 h 1225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3840" y="1785600"/>
            <a:ext cx="85726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Чаплина «Домашние животные» Издательство: Эксмо Москва 2008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е Сент-Экзюпери «Маленький Принц», 2007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http://www.theanimalworld.ru/books/book-3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http://ru.vlab.wikia.com/wiki/Бездомные_животны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2"/>
          <a:stretch/>
        </p:blipFill>
        <p:spPr>
          <a:xfrm>
            <a:off x="2206800" y="268200"/>
            <a:ext cx="4554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1"/>
          <p:cNvSpPr/>
          <p:nvPr/>
        </p:nvSpPr>
        <p:spPr>
          <a:xfrm>
            <a:off x="500040" y="285840"/>
            <a:ext cx="8278920" cy="1143000"/>
          </a:xfrm>
          <a:custGeom>
            <a:avLst/>
            <a:gdLst>
              <a:gd name="textAreaLeft" fmla="*/ 2069640 w 8278920"/>
              <a:gd name="textAreaRight" fmla="*/ 6209280 w 8278920"/>
              <a:gd name="textAreaTop" fmla="*/ 0 h 1143000"/>
              <a:gd name="textAreaBottom" fmla="*/ 1000440 h 1143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5840" y="1643040"/>
            <a:ext cx="84009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является актуальной и гораздо серьёзнее, чем нам кажется на первый взгляд. Бездомные собаки представляют собой угрозу безопасности населения: они являются переносчиками различных инфекционных заболеваний, в том числе экто - и эндопаразитов, возбудителей кишечных заболеваний и бешенства; отдельные стаи собак регулярно нападают на прохожих, пугают дет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реди современных экологических проблем  особого внимания заслуживает вопрос, связанный с наличием большого количества бездомных собак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читаем, что это серьезная проблема для населенных пунктов, и поэтому не хотим быть равнодушными и по мере возможности  изучить её в рамках своего поселк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ttps://im0-tub-ru.yandex.net/i?id=c69649a1634c399d6de22ba965e91458&amp;n=33&amp;h=215&amp;w=246"/>
          <p:cNvPicPr/>
          <p:nvPr/>
        </p:nvPicPr>
        <p:blipFill>
          <a:blip r:embed="rId1"/>
          <a:stretch/>
        </p:blipFill>
        <p:spPr>
          <a:xfrm>
            <a:off x="7372440" y="5310360"/>
            <a:ext cx="1771560" cy="1547640"/>
          </a:xfrm>
          <a:prstGeom prst="rect">
            <a:avLst/>
          </a:prstGeom>
          <a:ln w="0">
            <a:noFill/>
          </a:ln>
        </p:spPr>
      </p:pic>
      <p:pic>
        <p:nvPicPr>
          <p:cNvPr id="377" name="AutoShape 1" descr=""/>
          <p:cNvPicPr/>
          <p:nvPr/>
        </p:nvPicPr>
        <p:blipFill>
          <a:blip r:embed="rId2"/>
          <a:stretch/>
        </p:blipFill>
        <p:spPr>
          <a:xfrm>
            <a:off x="426960" y="146160"/>
            <a:ext cx="8296200" cy="1103040"/>
          </a:xfrm>
          <a:prstGeom prst="rect">
            <a:avLst/>
          </a:prstGeom>
          <a:ln w="0">
            <a:noFill/>
          </a:ln>
        </p:spPr>
      </p:pic>
      <p:pic>
        <p:nvPicPr>
          <p:cNvPr id="378" name="AutoShape 1" descr=""/>
          <p:cNvPicPr/>
          <p:nvPr/>
        </p:nvPicPr>
        <p:blipFill>
          <a:blip r:embed="rId3"/>
          <a:stretch/>
        </p:blipFill>
        <p:spPr>
          <a:xfrm>
            <a:off x="396720" y="2152800"/>
            <a:ext cx="8296560" cy="1108080"/>
          </a:xfrm>
          <a:prstGeom prst="rect">
            <a:avLst/>
          </a:prstGeom>
          <a:ln w="0">
            <a:noFill/>
          </a:ln>
        </p:spPr>
      </p:pic>
      <p:sp>
        <p:nvSpPr>
          <p:cNvPr id="379" name="Содержимое 1"/>
          <p:cNvSpPr/>
          <p:nvPr/>
        </p:nvSpPr>
        <p:spPr>
          <a:xfrm>
            <a:off x="357120" y="3429000"/>
            <a:ext cx="8229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учную литературу по данной те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-  консультацию со школьным медицинским работн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места обитания бездомных собак в посел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 социологический опрос (анкетирование) населения разных возрастов и разного социального положения с целью выяснения отношения  к проблеме бездомных животных  и путей е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организацию, которая занимается данной пробле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64296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причины, почему собаки становятся бездом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714840" y="356760"/>
            <a:ext cx="5214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омные  животн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людей за братье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х меньши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 она може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меньшени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бездомных животных 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м город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7" descr="https://ds02.infourok.ru/uploads/ex/109a/00004b31-7c3f6f26/hello_html_m3d432e7e.png"/>
          <p:cNvPicPr/>
          <p:nvPr/>
        </p:nvPicPr>
        <p:blipFill>
          <a:blip r:embed="rId1"/>
          <a:stretch/>
        </p:blipFill>
        <p:spPr>
          <a:xfrm>
            <a:off x="142920" y="714240"/>
            <a:ext cx="392904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Выяснить  причины появления бездомных животных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явить места обитания бездомных собак в посел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ровести беседу -  консультацию со школьным        медицинским работнико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знакомиться со статистикой обращения граждан в травматологию им.  Архиепископа Лук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Провести  социологический опрос  среди обучающихся нашей школы, среди жителей  поселк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знакомиться с работой приюта для бездомных животных «Доброе сердце»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Обработка результат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вод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AutoShape 1" descr=""/>
          <p:cNvPicPr/>
          <p:nvPr/>
        </p:nvPicPr>
        <p:blipFill>
          <a:blip r:embed="rId1"/>
          <a:stretch/>
        </p:blipFill>
        <p:spPr>
          <a:xfrm>
            <a:off x="426960" y="165240"/>
            <a:ext cx="8296200" cy="151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http://www.playcast.ru/uploads/2016/09/15/19900551.png"/>
          <p:cNvPicPr/>
          <p:nvPr/>
        </p:nvPicPr>
        <p:blipFill>
          <a:blip r:embed="rId2"/>
          <a:stretch/>
        </p:blipFill>
        <p:spPr>
          <a:xfrm>
            <a:off x="7143840" y="5214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 быстро размножают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тветственность владельц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ева, уезжая в отпуск, выгоняют животных на улиц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ись или убежали от хозя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рытые мусорные баки с остатками ед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приют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учета домашних животны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s://img-fotki.yandex.ru/get/5007/50114850.5d7/0_e2db0_5faae7bf_S"/>
          <p:cNvPicPr/>
          <p:nvPr/>
        </p:nvPicPr>
        <p:blipFill>
          <a:blip r:embed="rId2"/>
          <a:stretch/>
        </p:blipFill>
        <p:spPr>
          <a:xfrm>
            <a:off x="6357960" y="3643200"/>
            <a:ext cx="22860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1"/>
          <p:cNvSpPr/>
          <p:nvPr/>
        </p:nvSpPr>
        <p:spPr>
          <a:xfrm>
            <a:off x="142920" y="214200"/>
            <a:ext cx="9001080" cy="1214640"/>
          </a:xfrm>
          <a:custGeom>
            <a:avLst/>
            <a:gdLst>
              <a:gd name="textAreaLeft" fmla="*/ 2250000 w 9001080"/>
              <a:gd name="textAreaRight" fmla="*/ 6751080 w 9001080"/>
              <a:gd name="textAreaTop" fmla="*/ 0 h 1214640"/>
              <a:gd name="textAreaBottom" fmla="*/ 1063080 h 1214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5480" y="14997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еседы с медицинским работником нашей школы мы узнали, что бездомные собаки являются носителями инфекционных заболеваний.  Бездомные собаки заболевают  такими  заразными, опасными болезнями, как чума    плотоядных – одна из самых опасных вирусных болезней собак, бешенство, респираторная аденовирусная инфекция – гепатит, конъюнктивит, одышка, кашель, парвовирусная инфекция собак – внутриутробное заражение плода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ыявили местообитания бездомных собак в нашем поселке  – это территории Промзоны поселка Строитель, рынка Центрального микрорайона, участки дач, места для мусо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2494080" y="231840"/>
            <a:ext cx="42177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85840" y="1642680"/>
            <a:ext cx="84009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в Тамбове участились случаи нападения бездомных собак на людей.  В прошлом году в травматологию им. Архиепископа Луки обратились 57 тамбовчан, которых покусали бродячие собаки, и 50 человек, на которых напали уличные кошки. В семи случаях у животных было обнаружено инфекционное заболевание бешенство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AutoShap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8858520" cy="1187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vet-matroskin.ru/assets/images/Dogs_Dogue_de_Bordeaux_455570.jpg"/>
          <p:cNvPicPr/>
          <p:nvPr/>
        </p:nvPicPr>
        <p:blipFill>
          <a:blip r:embed="rId2"/>
          <a:stretch/>
        </p:blipFill>
        <p:spPr>
          <a:xfrm>
            <a:off x="5054760" y="3857760"/>
            <a:ext cx="33494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14200" y="171432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практическ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и ребят нашего класса 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 6 класса нашей школы.  Их вниманию были предложены 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 с вариантами ответ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Имеете ли Вы домашнего питомца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тноситесь к бездомным собакам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с жалостью                Б)  равнодушно                        В) с агресси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гласились ли Вы взять домой бездомную собаку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надо поступать с бездомными животными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рганизовать приюты          Б) усилить надзор за хозяевами домашних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вой вариант отве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2:37:17Z</dcterms:created>
  <dc:creator>Карина</dc:creator>
  <dc:description/>
  <dc:language>en-US</dc:language>
  <cp:lastModifiedBy>Карина</cp:lastModifiedBy>
  <dcterms:modified xsi:type="dcterms:W3CDTF">2017-02-28T18:16:03Z</dcterms:modified>
  <cp:revision>22</cp:revision>
  <dc:subject/>
  <dc:title>Слайд 1</dc:title>
</cp:coreProperties>
</file>